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AB84-D891-43B6-AECE-B2E73DF2C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5AB7-612E-4B4F-AFBB-CC33C169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E83-2273-44FA-9202-6DDE4F30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884-F5E0-47CD-AAB0-EC81AEB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7D4-0A2E-43C8-A2EA-2DEC5C67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F7A-8A8A-4C75-A8D5-C5981259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678-8B3C-4EA7-AC07-79E48FF4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961-E159-4376-8858-EFA4398A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293-C97C-474F-9860-9A570844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4D5-47FD-48FB-A411-A1B53542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164-0EA7-4FE8-91AB-639DBF25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056-5482-48CA-9A73-D4753DC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A06-3850-406E-9CB2-7E2E6853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2BB-83E9-461D-863F-26A2F11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268A-775A-4A75-8B01-945B7DF82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nica Tenec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. Me llamo Monica y tengo 14 años. Tengo dos hermanos y una hermana y vivemos en astoria, Queens. Yo soy Alegre, simpatica, linda  inteligente. Me gusta diviterme much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2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4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6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7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9"/>
          <p:cNvSpPr/>
          <p:nvPr/>
        </p:nvSpPr>
        <p:spPr>
          <a:xfrm>
            <a:off x="152280" y="685800"/>
            <a:ext cx="155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4"/>
          <p:cNvSpPr/>
          <p:nvPr/>
        </p:nvSpPr>
        <p:spPr>
          <a:xfrm>
            <a:off x="228600" y="1066680"/>
            <a:ext cx="132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6" descr="20204_393328290743197_1698626473_n.jpg"/>
          <p:cNvPicPr/>
          <p:nvPr/>
        </p:nvPicPr>
        <p:blipFill>
          <a:blip r:embed="rId10"/>
          <a:stretch/>
        </p:blipFill>
        <p:spPr>
          <a:xfrm>
            <a:off x="152280" y="9144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11"/>
          <a:stretch/>
        </p:blipFill>
        <p:spPr>
          <a:xfrm>
            <a:off x="228600" y="5257800"/>
            <a:ext cx="533520" cy="458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52280" y="57150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282890_472189296142141_2129182302_n.jpg"/>
          <p:cNvPicPr/>
          <p:nvPr/>
        </p:nvPicPr>
        <p:blipFill>
          <a:blip r:embed="rId12"/>
          <a:srcRect l="7445" t="42084" r="45039" b="0"/>
          <a:stretch/>
        </p:blipFill>
        <p:spPr>
          <a:xfrm>
            <a:off x="838080" y="5257800"/>
            <a:ext cx="5637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00:37Z</dcterms:created>
  <dc:creator>FriscoISD</dc:creator>
  <dc:description/>
  <dc:language>en-US</dc:language>
  <cp:lastModifiedBy>User</cp:lastModifiedBy>
  <dcterms:modified xsi:type="dcterms:W3CDTF">2012-12-04T14:07:54Z</dcterms:modified>
  <cp:revision>101</cp:revision>
  <dc:subject/>
  <dc:title>Profile</dc:title>
</cp:coreProperties>
</file>